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F7665-0438-4637-911C-1B3034F64F64}" type="slidenum">
              <a:rPr b="0" lang="da-DK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84972-D088-40B6-A936-5DB24AD2748F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FC480-C410-4C64-85AF-C1BC6E00A4C9}" type="slidenum">
              <a:rPr b="0" lang="da-DK" sz="12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71A79-98D9-4967-9B2A-9E1FDA5009BC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Calibri"/>
              </a:rPr>
              <a:t>Modarbejder opmærksomehds-KO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B07E5-32F9-4F50-994A-95EB58ACB040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BB115-129A-4394-98E7-993FD516F78C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F4E25-D49A-4499-A20F-D90979F339BB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22652-B4BD-434F-AE58-64A2E890C0F3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9EFE5-099F-41E3-B12E-71CC9ADAEEAA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EE5A-4A47-4645-BB85-593545BBB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6B0C-F090-4D7A-B831-A5DAC3E5D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EDF0-BF2E-4C43-8D8D-BA500BEE0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C998-A45D-4DB0-B745-3F2FBCA04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7A47-CE02-4B9D-ADB4-828280045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D496-A508-4646-ADE9-5A7749AFF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7CD7-3B69-4BF6-8481-F5ECD2336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44D7-8040-490A-B840-E1AFFE3DA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3111-93A4-4517-A86F-57AE4550F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E144-401D-4BA3-8434-590DBF0A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268C-3658-4EB2-856F-FB6DD348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6C67-C847-457D-998F-8250AE90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>
            <a:alpha val="2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82E30-2AD8-4421-9A28-9FAA13CB7CE5}" type="slidenum">
              <a:rPr b="0" lang="da-D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Billede 1" descr=""/>
          <p:cNvPicPr/>
          <p:nvPr/>
        </p:nvPicPr>
        <p:blipFill>
          <a:blip r:embed="rId2"/>
          <a:stretch/>
        </p:blipFill>
        <p:spPr>
          <a:xfrm>
            <a:off x="-22320" y="6453360"/>
            <a:ext cx="9363240" cy="208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1080"/>
            <a:ext cx="7847280" cy="342756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Verdana"/>
              </a:rPr>
              <a:t>Metakognitiv behandling til børn med generaliseret ang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5962680" y="3933720"/>
            <a:ext cx="1195200" cy="244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"/>
          <p:cNvPicPr/>
          <p:nvPr/>
        </p:nvPicPr>
        <p:blipFill>
          <a:blip r:embed="rId2"/>
          <a:stretch/>
        </p:blipFill>
        <p:spPr>
          <a:xfrm>
            <a:off x="7236000" y="3068640"/>
            <a:ext cx="1090440" cy="2876400"/>
          </a:xfrm>
          <a:prstGeom prst="rect">
            <a:avLst/>
          </a:prstGeom>
          <a:ln w="0">
            <a:noFill/>
          </a:ln>
        </p:spPr>
      </p:pic>
      <p:sp>
        <p:nvSpPr>
          <p:cNvPr id="52" name="TextBox 1"/>
          <p:cNvSpPr/>
          <p:nvPr/>
        </p:nvSpPr>
        <p:spPr>
          <a:xfrm>
            <a:off x="468360" y="3429000"/>
            <a:ext cx="409248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samling og status på forløb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ældreworkshop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6485040" y="64785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Center for Ang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4"/>
          <p:cNvSpPr/>
          <p:nvPr/>
        </p:nvSpPr>
        <p:spPr>
          <a:xfrm>
            <a:off x="-11160" y="2852640"/>
            <a:ext cx="9144000" cy="1800"/>
          </a:xfrm>
          <a:prstGeom prst="line">
            <a:avLst/>
          </a:prstGeom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6300720" y="189000"/>
            <a:ext cx="266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dviklet på baggrund af teori og terapi til voksne (Wells, 200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437680" cy="85068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år børn går i ter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99716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Sidst talte vi om …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 u="sng">
                <a:solidFill>
                  <a:srgbClr val="000000"/>
                </a:solidFill>
                <a:uFillTx/>
                <a:latin typeface="Times New Roman"/>
                <a:ea typeface="ヒラギノ明朝 ProN W3"/>
              </a:rPr>
              <a:t>HVAD I KAN GØ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Pas på med bjørnetjeneste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Lad være at bekræfte og diskut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Luk snak om bekymring a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Øg motivation ved at være positive og engagere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Ros fremgang og modig adfær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Hvordan går det med dett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Hvad er stadig svær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Hvad har I ændret siden sids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Line 4"/>
          <p:cNvSpPr/>
          <p:nvPr/>
        </p:nvSpPr>
        <p:spPr>
          <a:xfrm>
            <a:off x="-11160" y="1216080"/>
            <a:ext cx="9144000" cy="1440"/>
          </a:xfrm>
          <a:prstGeom prst="line">
            <a:avLst/>
          </a:prstGeom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250920"/>
            <a:ext cx="8437680" cy="116208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slutning og evalue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7640" y="1699920"/>
            <a:ext cx="6985080" cy="428292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554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54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54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Spørgsmål og kommentar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54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54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For spørgsmål i fremtiden, kontakt os på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54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(indsæt terapeuts kontaktoplysning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Line 4"/>
          <p:cNvSpPr/>
          <p:nvPr/>
        </p:nvSpPr>
        <p:spPr>
          <a:xfrm>
            <a:off x="-11160" y="1268280"/>
            <a:ext cx="9144000" cy="1800"/>
          </a:xfrm>
          <a:prstGeom prst="line">
            <a:avLst/>
          </a:prstGeom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Billede 1" descr=""/>
          <p:cNvPicPr/>
          <p:nvPr/>
        </p:nvPicPr>
        <p:blipFill>
          <a:blip r:embed="rId1"/>
          <a:stretch/>
        </p:blipFill>
        <p:spPr>
          <a:xfrm>
            <a:off x="7178760" y="2852640"/>
            <a:ext cx="1857240" cy="27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gsor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460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s i famili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vordan vedligeholdes angs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vad kan børnene selv gø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vad kan I som forældre gøre for at hjælpe jeres barn med at kæmpe mod angst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edback og andre spørgsmå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Line 4"/>
          <p:cNvSpPr/>
          <p:nvPr/>
        </p:nvSpPr>
        <p:spPr>
          <a:xfrm>
            <a:off x="-11160" y="1268280"/>
            <a:ext cx="9144000" cy="1800"/>
          </a:xfrm>
          <a:prstGeom prst="line">
            <a:avLst/>
          </a:prstGeom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s i famili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vordan går det med barne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vordan går det med famili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vilke fremskridt oplever 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vad mangler 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Line 4"/>
          <p:cNvSpPr/>
          <p:nvPr/>
        </p:nvSpPr>
        <p:spPr>
          <a:xfrm>
            <a:off x="1440" y="1268280"/>
            <a:ext cx="9144000" cy="1800"/>
          </a:xfrm>
          <a:prstGeom prst="line">
            <a:avLst/>
          </a:prstGeom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2240"/>
            <a:ext cx="8437680" cy="11430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Det kognitive opmærksomhedssyndrom (KOKS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 u="sng">
                <a:solidFill>
                  <a:srgbClr val="000000"/>
                </a:solidFill>
                <a:uFillTx/>
                <a:latin typeface="Times New Roman"/>
                <a:ea typeface="ヒラギノ明朝 ProN W3"/>
              </a:rPr>
              <a:t>OPMÆRKSOMH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Selvfokuser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Trusselsovervå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Forsøge at være på fork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 u="sng">
                <a:solidFill>
                  <a:srgbClr val="000000"/>
                </a:solidFill>
                <a:uFillTx/>
                <a:latin typeface="Times New Roman"/>
                <a:ea typeface="ヒラギノ明朝 ProN W3"/>
              </a:rPr>
              <a:t>TÆNK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Vedvarende bekymring og grubleri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Overanalys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Udfylde huller i hukommels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 u="sng">
                <a:solidFill>
                  <a:srgbClr val="000000"/>
                </a:solidFill>
                <a:uFillTx/>
                <a:latin typeface="Times New Roman"/>
                <a:ea typeface="ヒラギノ明朝 ProN W3"/>
              </a:rPr>
              <a:t>ADFÆR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Undgåels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Søge beroligelse hos foræld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Selvberoligel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Distrak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Tankeundertrykkelse, f.eks. tænke positiv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Lede efter bevis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Nedsat aktivitetsnivea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6384960" y="3267000"/>
            <a:ext cx="1363680" cy="3167280"/>
          </a:xfrm>
          <a:prstGeom prst="rect">
            <a:avLst/>
          </a:prstGeom>
          <a:ln w="0">
            <a:noFill/>
          </a:ln>
        </p:spPr>
      </p:pic>
      <p:sp>
        <p:nvSpPr>
          <p:cNvPr id="65" name="Cloud Callout 1"/>
          <p:cNvSpPr/>
          <p:nvPr/>
        </p:nvSpPr>
        <p:spPr>
          <a:xfrm>
            <a:off x="7093080" y="1916280"/>
            <a:ext cx="1655640" cy="1152360"/>
          </a:xfrm>
          <a:prstGeom prst="cloudCallout">
            <a:avLst>
              <a:gd name="adj1" fmla="val -42768"/>
              <a:gd name="adj2" fmla="val 63208"/>
            </a:avLst>
          </a:prstGeom>
          <a:noFill/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"/>
          <p:cNvSpPr/>
          <p:nvPr/>
        </p:nvSpPr>
        <p:spPr>
          <a:xfrm>
            <a:off x="7219800" y="2085840"/>
            <a:ext cx="136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vis jeg holder øje, sker der mig ikke no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Cloud Callout 3"/>
          <p:cNvSpPr/>
          <p:nvPr/>
        </p:nvSpPr>
        <p:spPr>
          <a:xfrm>
            <a:off x="4859280" y="1916280"/>
            <a:ext cx="2016360" cy="1296720"/>
          </a:xfrm>
          <a:prstGeom prst="cloudCallout">
            <a:avLst>
              <a:gd name="adj1" fmla="val 49560"/>
              <a:gd name="adj2" fmla="val 51365"/>
            </a:avLst>
          </a:prstGeom>
          <a:noFill/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183280" y="2043000"/>
            <a:ext cx="1368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re min mor svarer hurtigt på min sms, så jeg ved, at hun er ok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"/>
          <p:cNvSpPr/>
          <p:nvPr/>
        </p:nvSpPr>
        <p:spPr>
          <a:xfrm>
            <a:off x="-11160" y="1255680"/>
            <a:ext cx="9144000" cy="1800"/>
          </a:xfrm>
          <a:prstGeom prst="line">
            <a:avLst/>
          </a:prstGeom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437680" cy="85068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M-teknik består af disse to de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02680" y="5732280"/>
            <a:ext cx="8713800" cy="53316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a-D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M er en ny måde at forholde sig til tanker og billeder i hoved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Line 4"/>
          <p:cNvSpPr/>
          <p:nvPr/>
        </p:nvSpPr>
        <p:spPr>
          <a:xfrm>
            <a:off x="-11160" y="1165320"/>
            <a:ext cx="9144000" cy="1440"/>
          </a:xfrm>
          <a:prstGeom prst="line">
            <a:avLst/>
          </a:prstGeom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87240" y="1773360"/>
          <a:ext cx="7747200" cy="3476520"/>
        </p:xfrm>
        <a:graphic>
          <a:graphicData uri="http://schemas.openxmlformats.org/drawingml/2006/table">
            <a:tbl>
              <a:tblPr/>
              <a:tblGrid>
                <a:gridCol w="3848400"/>
                <a:gridCol w="3898800"/>
              </a:tblGrid>
              <a:tr h="581040">
                <a:tc>
                  <a:txBody>
                    <a:bodyPr lIns="171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tached (frakoble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1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171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indfulness (opmærksomh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1360" marR="9360">
                    <a:lnL w="28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19560">
                <a:tc>
                  <a:txBody>
                    <a:bodyPr lIns="171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kke at reagere p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1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71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 være opmærksom på </a:t>
                      </a:r>
                      <a:br>
                        <a:rPr sz="2000"/>
                      </a:br>
                      <a:r>
                        <a:rPr b="0" lang="da-DK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lstedeværelsen af tanker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1360" marR="9360">
                    <a:lnL w="28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609840">
                <a:tc>
                  <a:txBody>
                    <a:bodyPr lIns="171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kke at engagere sig 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1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71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erkende, at tanken er 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1360" marR="9360">
                    <a:lnL w="28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552240">
                <a:tc>
                  <a:txBody>
                    <a:bodyPr lIns="171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kke at forholde sig t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1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71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metakognitiv tilga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1360" marR="9360">
                    <a:lnL w="28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2880">
                <a:tc>
                  <a:txBody>
                    <a:bodyPr lIns="171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nken er adskilt fra en sel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1360" marR="9360">
                    <a:lnL w="576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71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1360" marR="9360">
                    <a:lnL w="28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570960">
                <a:tc>
                  <a:txBody>
                    <a:bodyPr lIns="171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n observerer tanken på afst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1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71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1360" marR="9360">
                    <a:lnL w="28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437680" cy="11430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Hvad har vi kontrol ove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Line 4"/>
          <p:cNvSpPr/>
          <p:nvPr/>
        </p:nvSpPr>
        <p:spPr>
          <a:xfrm>
            <a:off x="-11160" y="1268280"/>
            <a:ext cx="9144000" cy="1800"/>
          </a:xfrm>
          <a:prstGeom prst="line">
            <a:avLst/>
          </a:prstGeom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22440" y="2133720"/>
          <a:ext cx="7899120" cy="3359160"/>
        </p:xfrm>
        <a:graphic>
          <a:graphicData uri="http://schemas.openxmlformats.org/drawingml/2006/table">
            <a:tbl>
              <a:tblPr/>
              <a:tblGrid>
                <a:gridCol w="4000320"/>
                <a:gridCol w="3898800"/>
              </a:tblGrid>
              <a:tr h="758880">
                <a:tc>
                  <a:txBody>
                    <a:bodyPr lIns="171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i har kontrol ov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1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171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i har ikke kontrol ov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1360" marR="9360">
                    <a:lnL w="28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28560">
                <a:tc>
                  <a:txBody>
                    <a:bodyPr lIns="171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res handling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1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71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jr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1360" marR="9360">
                    <a:lnL w="28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676080">
                <a:tc>
                  <a:txBody>
                    <a:bodyPr lIns="171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res opmærksomh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1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71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 mennesk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1360" marR="9360">
                    <a:lnL w="28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657360">
                <a:tc>
                  <a:txBody>
                    <a:bodyPr lIns="171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res bekym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1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71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ng, der sker omkring 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1360" marR="9360">
                    <a:lnL w="28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638280">
                <a:tc>
                  <a:txBody>
                    <a:bodyPr lIns="171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m vi vælger at tænke det igenn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1360" marR="9360">
                    <a:lnL w="576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71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res triggertank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1360" marR="9360">
                    <a:lnL w="28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437680" cy="92232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da-DK" sz="4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Øvels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99716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Brug 10 minutter på at svare på spørgsmålen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Er der ting i hjemmet, som vedligeholder KOK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Gør I noget, som kan tænkes at vedligeholde KOK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Opsamling i plen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Line 4"/>
          <p:cNvSpPr/>
          <p:nvPr/>
        </p:nvSpPr>
        <p:spPr>
          <a:xfrm>
            <a:off x="-11160" y="1268280"/>
            <a:ext cx="9144000" cy="1800"/>
          </a:xfrm>
          <a:prstGeom prst="line">
            <a:avLst/>
          </a:prstGeom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12240"/>
            <a:ext cx="8437680" cy="11430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Se nedenfor: Hvad forekommer hos jer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02680" y="126828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 u="sng">
                <a:solidFill>
                  <a:srgbClr val="000000"/>
                </a:solidFill>
                <a:uFillTx/>
                <a:latin typeface="Times New Roman"/>
                <a:ea typeface="ヒラギノ明朝 ProN W3"/>
              </a:rPr>
              <a:t>OPMÆRKSOMH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Selvfokuser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Trusselsovervå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Forsøge at være på fork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 u="sng">
                <a:solidFill>
                  <a:srgbClr val="000000"/>
                </a:solidFill>
                <a:uFillTx/>
                <a:latin typeface="Times New Roman"/>
                <a:ea typeface="ヒラギノ明朝 ProN W3"/>
              </a:rPr>
              <a:t>TÆNK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Vedvarende bekymring og grubleri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Overanalys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Udfylde huller i hukommels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 u="sng">
                <a:solidFill>
                  <a:srgbClr val="000000"/>
                </a:solidFill>
                <a:uFillTx/>
                <a:latin typeface="Times New Roman"/>
                <a:ea typeface="ヒラギノ明朝 ProN W3"/>
              </a:rPr>
              <a:t>ADFÆR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Undgåels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Søge beroligelse hos foræld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Selvberoligel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Distrak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Tankeundertrykkelse, f.eks. tænke positiv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Lede efter bevis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Nedsat aktivitetsnivea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>
            <a:off x="6384960" y="3267000"/>
            <a:ext cx="1363680" cy="3167280"/>
          </a:xfrm>
          <a:prstGeom prst="rect">
            <a:avLst/>
          </a:prstGeom>
          <a:ln w="0">
            <a:noFill/>
          </a:ln>
        </p:spPr>
      </p:pic>
      <p:sp>
        <p:nvSpPr>
          <p:cNvPr id="83" name="Cloud Callout 1"/>
          <p:cNvSpPr/>
          <p:nvPr/>
        </p:nvSpPr>
        <p:spPr>
          <a:xfrm>
            <a:off x="7093080" y="1916280"/>
            <a:ext cx="1655640" cy="1152360"/>
          </a:xfrm>
          <a:prstGeom prst="cloudCallout">
            <a:avLst>
              <a:gd name="adj1" fmla="val -42768"/>
              <a:gd name="adj2" fmla="val 63208"/>
            </a:avLst>
          </a:prstGeom>
          <a:noFill/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"/>
          <p:cNvSpPr/>
          <p:nvPr/>
        </p:nvSpPr>
        <p:spPr>
          <a:xfrm>
            <a:off x="7219800" y="2085840"/>
            <a:ext cx="136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vis jeg holder øje, sker der mig ikke no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Cloud Callout 3"/>
          <p:cNvSpPr/>
          <p:nvPr/>
        </p:nvSpPr>
        <p:spPr>
          <a:xfrm>
            <a:off x="4859280" y="1916280"/>
            <a:ext cx="2016360" cy="1296720"/>
          </a:xfrm>
          <a:prstGeom prst="cloudCallout">
            <a:avLst>
              <a:gd name="adj1" fmla="val 49560"/>
              <a:gd name="adj2" fmla="val 51365"/>
            </a:avLst>
          </a:prstGeom>
          <a:noFill/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5183280" y="2043000"/>
            <a:ext cx="1368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re min mor svarer hurtigt på min sms, så jeg ved, at hun er ok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4"/>
          <p:cNvSpPr/>
          <p:nvPr/>
        </p:nvSpPr>
        <p:spPr>
          <a:xfrm>
            <a:off x="-11160" y="1077840"/>
            <a:ext cx="9144000" cy="1800"/>
          </a:xfrm>
          <a:prstGeom prst="line">
            <a:avLst/>
          </a:prstGeom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437680" cy="92232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da-DK" sz="4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Øvels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99716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Det er lettere for jer at støtte jeres barn, hvis I selv kan udføre DM på egne bekymring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Vælg en DM-teknik og en nylig bekymr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Identificer trigger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Begynd at bekymre di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Prøv efter lidt tid at bruge DM-teknik på trigger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Hvad skete de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Opsamling i plen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Line 4"/>
          <p:cNvSpPr/>
          <p:nvPr/>
        </p:nvSpPr>
        <p:spPr>
          <a:xfrm>
            <a:off x="-11160" y="1208160"/>
            <a:ext cx="9144000" cy="1440"/>
          </a:xfrm>
          <a:prstGeom prst="line">
            <a:avLst/>
          </a:prstGeom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7T08:06:20Z</dcterms:created>
  <dc:creator>Nicoline Normann</dc:creator>
  <dc:description/>
  <dc:language>en-US</dc:language>
  <cp:lastModifiedBy>Sørensen, Kristina DK - LRI</cp:lastModifiedBy>
  <cp:lastPrinted>2014-04-10T06:44:05Z</cp:lastPrinted>
  <dcterms:modified xsi:type="dcterms:W3CDTF">2016-04-11T11:29:55Z</dcterms:modified>
  <cp:revision>38</cp:revision>
  <dc:subject/>
  <dc:title>Metakognitiv behandling til børn med generaliseret angst</dc:title>
</cp:coreProperties>
</file>